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wind.wav" ContentType="audio/x-wav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DAA-12D1-4330-994B-A127EA32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4CBD-5E74-4BC3-BA9B-DC36F08F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70E-DF32-4293-8CFB-3DE6023D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5AE-26EC-48DB-A44D-5E49A2A2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3BC9-1600-4DAA-8B27-717C0A31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F7D-D829-4EB7-B407-7C9CB69A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921-AD65-4363-9E78-A8735BBD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96B-7D66-4AB9-8980-03A108A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160-7EE2-4E6F-8299-A161ECF6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9F8-216A-4395-BE47-D6FF79F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21B-B15A-42B6-922A-3B6D0E7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62D-DAAC-47CB-8586-64964029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4F6B-21A4-4676-8834-A8180A71C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ior Windmi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arrior Offshore Windm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leader in Windmill technology and offshore location s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endocino and Ripley – sister cities in the wind indu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rior Offshore Windmill Mod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tch – 30 degre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de Length – 14 i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ar – 4 in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wer – 1.56 wat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ior Wi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1359000"/>
            <a:ext cx="8076960" cy="5499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Why Warrior Windmill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able of providing 25% of California’s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rate 750 watts of po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Offsho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isfies energy needs without disrupting natural beau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minates inland nois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 pollution, vibrations, and electromagnetic fields are of little concern to the marin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ape Mendoci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8037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e Mendocino, 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2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ape Mendoci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tinuously high wind speed due to the protruding land mass of the cape that deflects northerly winds, creating a local wind jet that blows year 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docino’s 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81480" y="1828800"/>
            <a:ext cx="3124440" cy="1916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819520" cy="1728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971800" cy="1822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33520" y="1752480"/>
            <a:ext cx="3276360" cy="2009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5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5:28:34Z</dcterms:created>
  <dc:creator>OSU</dc:creator>
  <dc:description/>
  <dc:language>en-US</dc:language>
  <cp:lastModifiedBy>OSU</cp:lastModifiedBy>
  <dcterms:modified xsi:type="dcterms:W3CDTF">2008-07-17T20:02:49Z</dcterms:modified>
  <cp:revision>7</cp:revision>
  <dc:subject/>
  <dc:title>Slide 1</dc:title>
</cp:coreProperties>
</file>